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jeopardy.wav" ContentType="audio/x-wav"/>
  <Override PartName="/ppt/media/image3.jpeg" ContentType="image/jpeg"/>
  <Override PartName="/ppt/media/image13.jpeg" ContentType="image/jpeg"/>
  <Override PartName="/ppt/media/image2.jpeg" ContentType="image/jpeg"/>
  <Override PartName="/ppt/media/dramaticmusic.wav" ContentType="audio/x-wav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263-1D97-4133-84DF-EB157041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A7B-098F-404F-87EC-8D0C29F9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DD5-727B-4709-B396-59F72072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B07-4B4A-4698-8373-27CAE9CA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5EB4-BF4A-483B-ADC1-7BAF0A0C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084-7873-4E85-9B64-D9ADD9F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F774-D602-4BB8-BE45-A5F41FF4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BEF1-FFB7-4868-B843-A919670F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CFDF-DE58-43D4-A62A-1515F12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CC05-F62E-4889-9197-3237A41A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7859-E281-4813-BC49-019B4FE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187-4E6E-46F4-B090-56A9F5F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D33E-731E-414D-93FA-BFE4F07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DDB2-A8C1-4384-8856-558A745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728-BAD4-4830-BC49-821E970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2CB7-C1DA-44EC-B9CC-00F98462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018-B098-41D1-B012-966FBDF2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9B2D-1DF5-47B0-80BC-03995F95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1144-DC49-4C25-9974-B32E318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03DB-B13A-45C0-BC87-791D26EB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114B-FB7A-493A-84F2-E7722366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7F2C-C0F9-4F72-9F44-1CDF8D6E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AD9-DF46-461A-8381-BB72DD9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F205-99E5-4223-AA2B-E286F12B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8E0B-CC2A-41D7-8974-A93E908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0526-7348-43F2-948B-07E50F3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76A6-F4E7-48B9-80B6-3F9ADEC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F28B-F77B-420D-8842-1CFA4E8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E395-6C1F-4B78-9387-F558AC17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E253-B23D-4284-B13C-A96240DA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C08-4A60-423C-8000-8D402CB0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E9C-657D-48F4-878B-2865F446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716-5155-4E4F-A6F1-29CAA40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A08-9179-43AD-B76C-77ECD5B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7FB-0FD6-4932-8B2D-86D2F2A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6AD-DBFA-4F04-931D-9E29DEA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a5c445">
                  <a:alpha val="95294"/>
                </a:srgbClr>
              </a:gs>
              <a:gs pos="100000">
                <a:srgbClr val="a5c44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2B8E-AF24-44AA-97DF-6C138E6BC57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137360" y="0"/>
            <a:ext cx="200664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a5c445">
                  <a:alpha val="95294"/>
                </a:srgbClr>
              </a:gs>
              <a:gs pos="100000">
                <a:srgbClr val="a5c44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137360" y="0"/>
            <a:ext cx="200664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287280" y="4869000"/>
            <a:ext cx="8569440" cy="1368360"/>
          </a:xfrm>
          <a:prstGeom prst="rect">
            <a:avLst/>
          </a:prstGeom>
          <a:gradFill rotWithShape="0">
            <a:gsLst>
              <a:gs pos="0">
                <a:srgbClr val="a5c445">
                  <a:alpha val="40000"/>
                </a:srgbClr>
              </a:gs>
              <a:gs pos="100000">
                <a:srgbClr val="a5c445">
                  <a:alpha val="6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023-9FE7-496E-974C-4F3AA8D13EB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a5c445">
                  <a:alpha val="95294"/>
                </a:srgbClr>
              </a:gs>
              <a:gs pos="100000">
                <a:srgbClr val="a5c445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7137360" y="0"/>
            <a:ext cx="200664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E126-DFFC-4F66-B594-7B358B470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amaticmusic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jeopardy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9440" y="492444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95280" y="56466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ructional Les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43000" y="26431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90d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TTERFLY LIFE CYC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90d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amatic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he 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Chry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Butter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gardenvan.com/images/buttefly_egg1.jpg"/>
          <p:cNvPicPr/>
          <p:nvPr/>
        </p:nvPicPr>
        <p:blipFill>
          <a:blip r:embed="rId1"/>
          <a:stretch/>
        </p:blipFill>
        <p:spPr>
          <a:xfrm>
            <a:off x="857160" y="2143080"/>
            <a:ext cx="3286080" cy="336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714920" y="2857680"/>
            <a:ext cx="407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emale butterfly lays an egg on a lea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terpi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e egg hatches a tiny caterpi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erpillar eats and eats and 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3.gstatic.com/images?q=tbn:ANd9GcQF-CRQJ53Og71LgrWHbi5YlwEpBhwyWwXUVjoKStbYpK2ctu7pGg"/>
          <p:cNvPicPr/>
          <p:nvPr/>
        </p:nvPicPr>
        <p:blipFill>
          <a:blip r:embed="rId1"/>
          <a:stretch/>
        </p:blipFill>
        <p:spPr>
          <a:xfrm>
            <a:off x="4643280" y="1857240"/>
            <a:ext cx="38577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Chrys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t2.gstatic.com/images?q=tbn:ANd9GcRMW88v3bFujKqTXiqqF5MP2K8DbvM4gT6-IT3ixmOegaNYjWxAIg"/>
          <p:cNvPicPr/>
          <p:nvPr/>
        </p:nvPicPr>
        <p:blipFill>
          <a:blip r:embed="rId1"/>
          <a:stretch/>
        </p:blipFill>
        <p:spPr>
          <a:xfrm>
            <a:off x="642960" y="2000160"/>
            <a:ext cx="3240000" cy="3659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4429080" y="2500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aterpillar wraps himself inside a cocoon and stays inside for about 2 wee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Butter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25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e chrysalis comes a beautiful butterf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photopumpkin.com/wp-content/uploads/butterfly-3.jpg"/>
          <p:cNvPicPr/>
          <p:nvPr/>
        </p:nvPicPr>
        <p:blipFill>
          <a:blip r:embed="rId1"/>
          <a:stretch/>
        </p:blipFill>
        <p:spPr>
          <a:xfrm>
            <a:off x="1785960" y="1754280"/>
            <a:ext cx="4286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Diagram of The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kwiznet.com/images/questions/grade1/science/life_cycle_of_butterfly.gif"/>
          <p:cNvPicPr/>
          <p:nvPr/>
        </p:nvPicPr>
        <p:blipFill>
          <a:blip r:embed="rId2"/>
          <a:stretch/>
        </p:blipFill>
        <p:spPr>
          <a:xfrm>
            <a:off x="1428840" y="1714680"/>
            <a:ext cx="60721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can see red, green, and ye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have four w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antennae that help them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butterflies are bigger than male butterf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tterfly flies from flower to flower eating nec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utrfly-flwr"/>
          <p:cNvPicPr/>
          <p:nvPr/>
        </p:nvPicPr>
        <p:blipFill>
          <a:blip r:embed="rId1"/>
          <a:stretch/>
        </p:blipFill>
        <p:spPr>
          <a:xfrm>
            <a:off x="3733920" y="54291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86040" y="142920"/>
            <a:ext cx="2357640" cy="1270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http://t3.gstatic.com/images?q=tbn:ANd9GcRRzHosIW0Dj9aoRWNMjXDVWJDvXrFIaFkRkswZQTjsY3J8MRD_"/>
          <p:cNvPicPr/>
          <p:nvPr/>
        </p:nvPicPr>
        <p:blipFill>
          <a:blip r:embed="rId3"/>
          <a:stretch/>
        </p:blipFill>
        <p:spPr>
          <a:xfrm>
            <a:off x="3643200" y="5083200"/>
            <a:ext cx="2071800" cy="155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ttp://t0.gstatic.com/images?q=tbn:ANd9GcSgLfYuwy9dSlv7dHTULCqejCP4Fzu67PKWSXoFLCishlv8ZoMXxQ"/>
          <p:cNvPicPr/>
          <p:nvPr/>
        </p:nvPicPr>
        <p:blipFill>
          <a:blip r:embed="rId4"/>
          <a:stretch/>
        </p:blipFill>
        <p:spPr>
          <a:xfrm>
            <a:off x="714240" y="5143680"/>
            <a:ext cx="1967040" cy="150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http://t0.gstatic.com/images?q=tbn:ANd9GcRL2S5xXFbitJb3xyAhVX9yN5aVWli06UurQh1r7Ouq3Uidpa0Y"/>
          <p:cNvPicPr/>
          <p:nvPr/>
        </p:nvPicPr>
        <p:blipFill>
          <a:blip r:embed="rId5"/>
          <a:stretch/>
        </p:blipFill>
        <p:spPr>
          <a:xfrm>
            <a:off x="6572160" y="50007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Owner</cp:lastModifiedBy>
  <dcterms:modified xsi:type="dcterms:W3CDTF">2011-10-20T02:32:13Z</dcterms:modified>
  <cp:revision>17</cp:revision>
  <dc:subject/>
  <dc:title>Fall Season PowerPoint Presentation</dc:title>
</cp:coreProperties>
</file>